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4E8-40DD-4543-9651-FFF2A45B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07E-779C-4A32-A464-A11C8C2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F17-CBE9-44B3-A184-E045717C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13C-52DD-43BD-AD27-7E562DA9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0B0-256A-4D59-BEAA-113BA600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172-70EF-4477-BCBC-4E4A7D5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C29-6D88-422D-8E83-32F2B4CF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51C-8716-4040-BF3F-6602A9F1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B46-DF05-43C1-AA23-5EFF87F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6B9-459C-4CB6-9CB4-0203AD6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B1C-BF3A-4D18-98A2-C8B273CB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791-92A4-4530-896D-010D1D6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3F8-1720-4663-A26A-AB7386994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s of Linear Inequal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9051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Systems of Linear Inequalities by Grap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65080" y="698400"/>
            <a:ext cx="74138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943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5029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23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5473800"/>
            <a:ext cx="87631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886200" cy="81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70520" y="5160960"/>
            <a:ext cx="22212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1752480"/>
            <a:ext cx="236196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00600"/>
            <a:ext cx="6019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905120"/>
            <a:ext cx="28195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348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267080"/>
            <a:ext cx="2590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267080"/>
            <a:ext cx="2514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100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095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and Using Systems of Linear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92504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4953240" cy="75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191120"/>
            <a:ext cx="845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671400"/>
            <a:ext cx="86104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534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05:48Z</dcterms:created>
  <dc:creator>Susannah Graham</dc:creator>
  <dc:description/>
  <dc:language>en-US</dc:language>
  <cp:lastModifiedBy>BRSD</cp:lastModifiedBy>
  <dcterms:modified xsi:type="dcterms:W3CDTF">2010-04-08T13:19:49Z</dcterms:modified>
  <cp:revision>4</cp:revision>
  <dc:subject/>
  <dc:title>Lesson 3.6 Systems of Linear Inequalities </dc:title>
</cp:coreProperties>
</file>